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5AF-7488-4461-B00C-6386C469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0677-6A0A-4B42-9256-D0590A3D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319-AF87-486C-8B65-C59186E0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BD12-66B4-41B1-892D-C1A16CC3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5FB-E1D0-46D7-903F-46B2C12A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88C1-F107-4243-8BD5-CCFFDC30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8AFE-C47A-42EA-8532-6812BD36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B96-7235-4818-9B10-58517F57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8364-3FBE-4BD6-9574-94323D53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02D8-3885-4094-BF0F-EC9EAC53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A02-0FC3-4F6F-998E-745D8D09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406-D405-45F6-8444-D55D6AE2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5C26-80CA-46E0-9BE0-613EDDAC2A1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3BC4-A4B7-48B5-AAD8-3C375A7039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ulinar66.ru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49120" y="123480"/>
            <a:ext cx="684036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Консультативного совет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грамме «Наставник</a:t>
            </a:r>
            <a:br>
              <a:rPr sz="2400"/>
            </a:br>
            <a:br>
              <a:rPr sz="2600"/>
            </a:b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Екатеринбург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февраля 2019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         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kulinar66.ru/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аздел «Консультативный сове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500720" y="3940200"/>
            <a:ext cx="405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6400" indent="-806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кладчик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06400" indent="-806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ламгалиев Феликс Галиаска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06400" indent="-806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едатель Консультативного 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управленческих проектов н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.02.2019 г. состоялась в 57 профессиональных организация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29 ПОО завершается процедура включения в резерв управленческих кадров, в 2 учреждениях специалист находится на длительном больничном. 57,9% проектов были представлены на Педагогических советах, 15,8% представлялись на Советах и 12,3% методических советах ПО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результатам защиты все проекты получили одобрение, рекомендованы к внедрени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0D64-FE90-4193-9058-E6C31B05BC8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2050920" y="33984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овождение проек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B0B6-7092-464F-85FB-7F34DF7F6F0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Объект 4" descr=""/>
          <p:cNvPicPr/>
          <p:nvPr/>
        </p:nvPicPr>
        <p:blipFill>
          <a:blip r:embed="rId1"/>
          <a:srcRect l="24141" t="37098" r="22255" b="35039"/>
          <a:stretch/>
        </p:blipFill>
        <p:spPr>
          <a:xfrm>
            <a:off x="28440" y="1347840"/>
            <a:ext cx="375156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2"/>
          <a:stretch/>
        </p:blipFill>
        <p:spPr>
          <a:xfrm>
            <a:off x="28440" y="19512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7"/>
          <p:cNvSpPr/>
          <p:nvPr/>
        </p:nvSpPr>
        <p:spPr>
          <a:xfrm>
            <a:off x="1763640" y="4017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оектов в образовательной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492360" y="976320"/>
          <a:ext cx="5472360" cy="4213080"/>
        </p:xfrm>
        <a:graphic>
          <a:graphicData uri="http://schemas.openxmlformats.org/drawingml/2006/table">
            <a:tbl>
              <a:tblPr/>
              <a:tblGrid>
                <a:gridCol w="5472360"/>
              </a:tblGrid>
              <a:tr h="281160"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имеры тем управленческих проек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5028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Центра опережающей профессиональной подготов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236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ниторинг качества проектного управления в колледж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720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ифровые образовательные технологии и онлайн-обучение  в НТТМП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ация учащихся школ на получение рабочей профессии за счет реализации практикоориентированной предпрофильной подготов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1928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ект создания интеграционной площадки профессиональной ориентации и профессионального самоопределения для выпускников коррекционных школ и молодежи с инвалидностью и ОВЗ г. Нижний Тагил и пригородного района - "Профессиональный выбор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720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чество образования как основа профессиональной моби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728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а модернизации ГАПОУ СО "Кировградский техникум ПТС" в целях устранения дефицита квалифицированных рабочих кадров на период 2019-2024г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гративная модель системы профессионального воспитания обучающихся в ГАПОУ СО "Верхнесалдинский авиаметаллургический техникум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620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е партнерство как условие развития ГБПОУ СО "НТПК № 1" на территории Горнозаводского управленческого округа Свердловской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ниторинг качества образовательной деятельности ГБПОУ СО "Нижнетагильский торгово-экономический колледж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756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имиджа ГАПОУ СО "Кировградский техникум ПТС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27280" y="1200240"/>
            <a:ext cx="425916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ьнейшем представление проектов запланировано на мар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57,9% ПОО защита состоится н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ных советах по профессиональному образовани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ерритории (округ или Конкретное муниципальное образование). Кроме того, в тех территориях, где Координационные советы по профессиональному образованию не созданы (г. Екатеринбург) или находятся на стадии формирования, защита планируется на заседаниях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х органов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 образова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ах директоров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ят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BFE5-0981-4765-9E1B-1E2EFC80E64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4" descr=""/>
          <p:cNvPicPr/>
          <p:nvPr/>
        </p:nvPicPr>
        <p:blipFill>
          <a:blip r:embed="rId1"/>
          <a:srcRect l="24026" t="37870" r="23982" b="35814"/>
          <a:stretch/>
        </p:blipFill>
        <p:spPr>
          <a:xfrm>
            <a:off x="250920" y="1276200"/>
            <a:ext cx="4537080" cy="2762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2"/>
          <a:stretch/>
        </p:blipFill>
        <p:spPr>
          <a:xfrm>
            <a:off x="28440" y="195120"/>
            <a:ext cx="8791560" cy="7812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2273760" y="484200"/>
            <a:ext cx="569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оектов на Координационных сове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2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4BFC-096F-44DB-B688-0F0677CC812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1" descr="C:\Users\User\AppData\Local\Temp\part000001.jpg"/>
          <p:cNvPicPr/>
          <p:nvPr/>
        </p:nvPicPr>
        <p:blipFill>
          <a:blip r:embed="rId1"/>
          <a:stretch/>
        </p:blipFill>
        <p:spPr>
          <a:xfrm rot="21145200">
            <a:off x="293400" y="1154160"/>
            <a:ext cx="3557520" cy="3956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2"/>
          <a:stretch/>
        </p:blipFill>
        <p:spPr>
          <a:xfrm>
            <a:off x="144360" y="155520"/>
            <a:ext cx="8748720" cy="7812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"/>
          <p:cNvSpPr/>
          <p:nvPr/>
        </p:nvSpPr>
        <p:spPr>
          <a:xfrm>
            <a:off x="4193280" y="1203480"/>
            <a:ext cx="34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 СПЕЦИАЛИСТА РЕЗЕР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4154400" y="163512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ОЦЕНКИ ОБРАЗОВАНИЯ ПРОФЕССИОНАЛЬНОГО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ЧЕСКОГО ОПЫТА СПЕЦИАЛИСТА РЕЗЕР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4211640" y="2670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ЛАН ПОДГОТО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4427640" y="3340080"/>
            <a:ext cx="460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мероприятий предусматривает различные виды подготовки работника (обучение на курсах подготовки повышения квалификации, освоение программы профессиональной переподготовки и т.п., исполнение обязанностей руководителя) и совершенствование его профессионального опыта,  с учетом результатов самоанализа и актуальных задач развития образовательной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1808280" y="223920"/>
            <a:ext cx="70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а , включенного в резерв управленческих кад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0840" y="1058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2018 и 2019 года 24 человека участвовали и удачно прошли собеседование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меститель руководителя профессиональной организации»</a:t>
            </a:r>
            <a:br>
              <a:rPr sz="1800"/>
            </a:b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собеседования выявлялись личностные качества соискателя, его профессиональные компетенции, а также опыт работы, уровень стратегического и оперативного управленческого мышления, соответствие предполагаемой роли в управленческом аппарате организации, потенциал и амбици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ое собеседование с кандидатами на должность заместителя руководителя позволили определить степень совпадения профессиональных и личностных качеств соискателя с целями организации и системы профессионального образования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324000" y="195120"/>
            <a:ext cx="8424720" cy="8636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1763640" y="19512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беседование с кандидатами 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 «заместитель руководителя профессиональной организа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9CF9-A582-48B8-8388-789AD8B5819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2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9355-A2DC-4CDE-97D2-966E7F1986D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3160" y="1405080"/>
          <a:ext cx="8854920" cy="3576600"/>
        </p:xfrm>
        <a:graphic>
          <a:graphicData uri="http://schemas.openxmlformats.org/drawingml/2006/table">
            <a:tbl>
              <a:tblPr/>
              <a:tblGrid>
                <a:gridCol w="269640"/>
                <a:gridCol w="2113200"/>
                <a:gridCol w="4464000"/>
                <a:gridCol w="2008080"/>
              </a:tblGrid>
              <a:tr h="279720">
                <a:tc gridSpan="3"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СТА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ластного совета ветеран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 по управленческим округа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94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еев Валерий Петр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щего и профессионального образования Свердловской обла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щего и профессионального образования Свердловской обла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004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ов Борис Борис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ый управленческий округ (ранее - директор Талицкого политехникум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яшок Сергей Иван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72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шивалкина Татьяна Анатолье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ный управленческий округ (ранее - Краснотурьинский индустриальный  колледж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хломин Яков Михайл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94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вкина Татьяна Алексее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нозаводской управленческий окру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ее – директор педколледжа № 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кишева Наталья Михайло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94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овальникова Людмила Михайловн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й управленческий окру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ПОУ СО «Первоуральский политехникум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ет в ГАПОУ СО «Первоуральский политехникум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мотова  Лариса Владимиро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фаева Людмила Василье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ый управленческий окру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анее - директор, Каменск-Уральское профессиональное торгово-кулинарное училищ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ягинцев Сергей Михайл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94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олина Фаина Григорье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атеринбур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анее – ОУ «От кутюр») Работает заместителем директора ОТДИ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узакова Татьяна Сергее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94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кин Александр Михайл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атеринбур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анее – ГАПОУ СО «ТИПУ «Кулинар»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узакова Татьяна Сергее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94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знец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ил Иван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атеринбур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анее – ГАПОУ СО «Автоматика»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узакова Татьяна Сергее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73080" y="876240"/>
            <a:ext cx="907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по составу Областного совета ветеранов систе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го образования Свердловской обл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28440" y="19512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8"/>
          <p:cNvSpPr/>
          <p:nvPr/>
        </p:nvSpPr>
        <p:spPr>
          <a:xfrm>
            <a:off x="1763640" y="33012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бота с ветеранами системы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979640" y="0"/>
            <a:ext cx="6851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F776-7F24-47BF-B967-DC102A875117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780640" y="257184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1131840"/>
            <a:ext cx="38880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создания резерв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своевременный подбор претендентов на должности, для замещения которых формируются резервы управленческих кадров, из числа руководителей, обладающих наиболее высоким управленческим потенциало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ить планомерную подготовку и профессиональное развитие управленческих кадр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условия для развития кадрового потенциала системы среднего профессионального 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Номер слайда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927B-52F5-4B55-A9BB-44120945559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7920" y="195120"/>
            <a:ext cx="9144000" cy="781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5076720" y="1120680"/>
            <a:ext cx="37432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2460600" y="2192400"/>
            <a:ext cx="3263760" cy="703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ВНИЧЕ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ав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150840" y="3147840"/>
            <a:ext cx="2305080" cy="152892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и сопровождение кадрового резерва по должности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ководитель профессиональной организаци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3203640" y="3147840"/>
            <a:ext cx="2448000" cy="152892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еседование с кандидатами 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жность «заместитель руководителя профессиональной организации»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20"/>
          <p:cNvCxnSpPr/>
          <p:nvPr/>
        </p:nvCxnSpPr>
        <p:spPr>
          <a:xfrm>
            <a:off x="5651280" y="2643120"/>
            <a:ext cx="1081800" cy="47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22"/>
          <p:cNvCxnSpPr>
            <a:endCxn id="50" idx="0"/>
          </p:cNvCxnSpPr>
          <p:nvPr/>
        </p:nvCxnSpPr>
        <p:spPr>
          <a:xfrm>
            <a:off x="4427280" y="2895120"/>
            <a:ext cx="1080" cy="25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24"/>
          <p:cNvCxnSpPr/>
          <p:nvPr/>
        </p:nvCxnSpPr>
        <p:spPr>
          <a:xfrm flipH="1">
            <a:off x="1547280" y="2576160"/>
            <a:ext cx="756720" cy="545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4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2479320" y="20628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граммы «Настав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BB8B-3107-47AE-8467-B52702D3C47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8"/>
          <p:cNvSpPr/>
          <p:nvPr/>
        </p:nvSpPr>
        <p:spPr>
          <a:xfrm>
            <a:off x="6300720" y="3121200"/>
            <a:ext cx="1943280" cy="155556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с ветеранами системы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539640" y="825480"/>
            <a:ext cx="813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наставничества включает в себя компонен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потребност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учении сотруд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, подбор, разработка программ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я и развития сотруд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г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зультато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денного обу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2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A448-EDD0-488E-BF2E-518D41FFCA6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668160" y="2928960"/>
            <a:ext cx="671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резерве находится 85 челов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едные собеседования в резерв руководителя состоя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февраля и 20 февраля 2019 года - 12 челов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го участника кадрового резерва руководителя должен быть заполнен ПАСПОРТ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м. на сайте «Кулинара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7"/>
          <p:cNvSpPr/>
          <p:nvPr/>
        </p:nvSpPr>
        <p:spPr>
          <a:xfrm>
            <a:off x="312840" y="1312920"/>
            <a:ext cx="842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ц 2018 года 29 организаций не имели кадрового резерва по разным причин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ура не подана повторно после отрицательного заключения комиссии по результатам собесед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рганизация находится в стадии реорганиз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27000" y="19512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1619280" y="330120"/>
            <a:ext cx="74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ормирование и сопровождение кадрового резерва по должности «руководитель профессиональной организ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2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0A34-5DCF-4D41-B3D9-8CADBE2730B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95280" y="1200240"/>
          <a:ext cx="8280360" cy="3394080"/>
        </p:xfrm>
        <a:graphic>
          <a:graphicData uri="http://schemas.openxmlformats.org/drawingml/2006/table">
            <a:tbl>
              <a:tblPr/>
              <a:tblGrid>
                <a:gridCol w="378000"/>
                <a:gridCol w="2595240"/>
                <a:gridCol w="1667160"/>
                <a:gridCol w="3639960"/>
              </a:tblGrid>
              <a:tr h="42372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фессиональная образовательная организация Свердловской обла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ректор ПО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ндидат в резер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разовательная организация где назначен на должность руководи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664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14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БПОУ СО «Алапаевский профессионально-педагогический колледж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14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директор - Кабакова Татьяна Дмитриевн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14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14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гайнов Денис Сергеевич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14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подават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14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14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енное бюджетное профессиональное образовательное учреждение Свердловской области «Алапаевский индустриальный техникум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780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БПОУ СО «Екатеринбургский политехникум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директор - Козлов Андрей Николаевич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тунина Наталья Александровна, заместитель директора по учебно-методической работ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енное бюджетное профессиональное образовательное учреждение Свердловской области «Екатеринбургский политехникум» (</a:t>
                      </a: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в настоящий момент идет процесс назначени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668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БПОУ СО «Екатеринбургский техникум химического машиностроения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директор - Полетаева Надежда Валерьевн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олок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рина Анатольевна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меститель директора по учебно-производственной работ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енное бюджетное  профессиональное образовательное учреждение Свердловской области «Сысертский социально-экономический техникум «Родник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924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ПОУ СО «Краснотурьинский индустриальный колледж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директор - Обшивалкина Татьяна Анатольевн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нов Кирилл Сергеевич заместитель директора по учебно-производственной работ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енное автономное профессиональное образовательное учреждение Свердловской области «Краснотурьинский индустриальный колледж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8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27000" y="19512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2131920" y="58572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руководителей из резер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pic>
        <p:nvPicPr>
          <p:cNvPr id="71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27000" y="468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5"/>
          <p:cNvSpPr/>
          <p:nvPr/>
        </p:nvSpPr>
        <p:spPr>
          <a:xfrm>
            <a:off x="2600640" y="184320"/>
            <a:ext cx="61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подготовка участников кадрового резер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210B-3C88-4F41-BB61-05D02E1FC93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2268360" y="1187280"/>
            <a:ext cx="6264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жная карта сопровождения кадрового резерва включает в себ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ую подготовку участников кадрового резерва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образовательном учреждении, МЦК и ИРО  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планирован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ценке и анализе деятельности образовательного учрежд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готовке проектов педагогических совет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окальных актов, программ, концепций развития образовательного учрежд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обязанностей вышестоящег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уководителя в период его отсутствия с целью получения опыта руководящей рабо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валификации по качеству управления профессиональной образовательной организац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5" descr=""/>
          <p:cNvPicPr/>
          <p:nvPr/>
        </p:nvPicPr>
        <p:blipFill>
          <a:blip r:embed="rId2"/>
          <a:stretch/>
        </p:blipFill>
        <p:spPr>
          <a:xfrm>
            <a:off x="249120" y="1633680"/>
            <a:ext cx="122580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2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704D-6EA8-4DC9-A538-7E9594269D6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258920"/>
          <a:ext cx="8229600" cy="3689280"/>
        </p:xfrm>
        <a:graphic>
          <a:graphicData uri="http://schemas.openxmlformats.org/drawingml/2006/table">
            <a:tbl>
              <a:tblPr/>
              <a:tblGrid>
                <a:gridCol w="411120"/>
                <a:gridCol w="7818480"/>
              </a:tblGrid>
              <a:tr h="217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витие профессиональной образовательной организации в условиях малого город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600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ое партнерство организации СПО как условие ее разви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Совершенствование условий для подготовки высококвалифицированных рабочих кадров с учетом современных стандартов и передовых технологий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7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аставничество, как один из инструментов сетевого взаимодействия образовательной организации и предприятий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600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кадрового потенциала ОО в контексте модернизации среднего профессионального 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488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Разработка программы сопровождения процесса трудоустройства инвалидов и лиц с ограниченными возможностями здоровь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3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зяйственно-экономическая самостоятельность структурного подразделения "Столовая СПО" в условиях современной образовательной поли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7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ие имиджа образовательной организации среднего профессионального образования в современном обществ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600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стема развития кадрового потенциала ПО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7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ирование программы развития профессиональной организации на основе проектного управ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7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Создание инновационных мастерских в рамках федерального проекта "Молодые профессионалы" 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тевое взаимодействие как механизм подготовки  высококвалифицированных рабочих кадров для высокотехнологичных отраслей промышл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7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едрение электронного обучения в образовательный процесс, и д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27000" y="19512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1979640" y="22212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потребности в повышении квалификации кадрового резерва выявил наиболее востребованные т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050560" y="987480"/>
            <a:ext cx="65026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пройти обучение по дополнительной профессиональной программ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правление развитием профессиональной образовательной организации (для кадрового резерва) (в форме стажировки)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ём программы составляет 16 академических часов в течение 3 дней 1 квартала 2019 года (первый день - 8 часов, второй день - 3 часа, третий день - 5 часов, включая итоговую аттестаци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ая аттестация проводится в форме Круглого стола, на котором  будут представлены и обсуждены внесенные слушателями корректировки в программы развития профессиональных образовательных организаций. Состав Комиссии итоговой аттестации по программе будет определен Консультативным совет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тогам обучения слушателям выдается удостоверение о повышении  квалификации ИРО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51AD-1438-436F-9C68-0A8A9ABC886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27000" y="468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1908000" y="19512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ГАОУ ДПО СО «Институт развития образован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214200" y="987480"/>
            <a:ext cx="2089440" cy="180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http://s019.radikal.ru/i623/1204/9d/57a121a61799.jpg"/>
          <p:cNvPicPr/>
          <p:nvPr/>
        </p:nvPicPr>
        <p:blipFill>
          <a:blip r:embed="rId3"/>
          <a:stretch/>
        </p:blipFill>
        <p:spPr>
          <a:xfrm>
            <a:off x="395280" y="336384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"/>
          <p:cNvPicPr/>
          <p:nvPr/>
        </p:nvPicPr>
        <p:blipFill>
          <a:blip r:embed="rId1"/>
          <a:stretch/>
        </p:blipFill>
        <p:spPr>
          <a:xfrm>
            <a:off x="0" y="811080"/>
            <a:ext cx="9717120" cy="4108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2"/>
          <a:stretch/>
        </p:blipFill>
        <p:spPr>
          <a:xfrm>
            <a:off x="0" y="0"/>
            <a:ext cx="9144000" cy="843120"/>
          </a:xfrm>
          <a:prstGeom prst="rect">
            <a:avLst/>
          </a:prstGeom>
          <a:ln w="0">
            <a:noFill/>
          </a:ln>
        </p:spPr>
      </p:pic>
      <p:sp>
        <p:nvSpPr>
          <p:cNvPr id="89" name="Заголовок 1"/>
          <p:cNvSpPr/>
          <p:nvPr/>
        </p:nvSpPr>
        <p:spPr>
          <a:xfrm>
            <a:off x="1619280" y="0"/>
            <a:ext cx="734544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АММА профессиональной переподготовки «Личностно-профессиональные компетенции и управленческие технологии в образовании», ГАПОУ СО «Уральский политехнический колледж-Межрегиональный центр компетенций» 260 часов, очная форма обу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B307-CE8F-47C2-AC32-0DE20B4EC80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7093080" y="915840"/>
            <a:ext cx="1800000" cy="18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kirsruo.ucoz.ru/Novosti/whichway.jpg"/>
          <p:cNvPicPr/>
          <p:nvPr/>
        </p:nvPicPr>
        <p:blipFill>
          <a:blip r:embed="rId4"/>
          <a:stretch/>
        </p:blipFill>
        <p:spPr>
          <a:xfrm>
            <a:off x="6948360" y="2940120"/>
            <a:ext cx="1646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2:36:57Z</dcterms:created>
  <dc:creator>Design</dc:creator>
  <dc:description/>
  <dc:language>en-US</dc:language>
  <cp:lastModifiedBy>Комарова Елена Cтепановна</cp:lastModifiedBy>
  <cp:lastPrinted>2019-02-07T09:42:54Z</cp:lastPrinted>
  <dcterms:modified xsi:type="dcterms:W3CDTF">2019-02-14T08:01:00Z</dcterms:modified>
  <cp:revision>201</cp:revision>
  <dc:subject/>
  <dc:title>Презентация PowerPoint</dc:title>
</cp:coreProperties>
</file>