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B3D-E531-4A7B-A1F7-9C89730F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0D8-8A32-4F76-9C45-B552CE4E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F64-E9D6-4DBC-BE63-EEE4A3A6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365-2624-4B38-8058-12F966A9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400-FEDD-4444-9FC3-8B993CF6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542-A717-4CD9-88D6-0FB4A04E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1313-C9F2-4A69-BB09-8C23D4D6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132-BF24-467C-9D87-30429732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F64-7A61-400B-A28B-0EDAFC20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E49-8831-4809-9CB2-43559CA1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3BA-3D2B-4BF3-9507-EEFC2A61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309-EBBF-4830-A60C-A189C1B4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F4F7-F88A-4222-9F1B-13071CECD0A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498D-B626-4F71-8719-6FCB41D66A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linar66.ru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49120" y="123480"/>
            <a:ext cx="684036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Консультативного совет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грамме «Наставник</a:t>
            </a:r>
            <a:br>
              <a:rPr sz="2400"/>
            </a:br>
            <a:br>
              <a:rPr sz="2600"/>
            </a:b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Екатеринбург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февраля 2019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 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kulinar66.ru/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аздел «Консультативный сове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500720" y="3940200"/>
            <a:ext cx="405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6400" indent="-806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кладчик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06400" indent="-806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ламгалиев Феликс Галиаска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06400" indent="-806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едатель Консультативного 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управленческих проектов н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.02.2019 г. состоялась в 57 профессиональных организац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29 ПОО завершается процедура включения в резерв управленческих кадров, в 2 учреждениях специалист находится на длительном больничном. 57,9% проектов были представлены на Педагогических советах, 15,8% представлялись на Советах и 12,3% методических советах ПО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результатам защиты все проекты получили одобрение, рекомендованы к внедрени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66EA-F127-450E-853B-64B80122F0B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2050920" y="3398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вождение проек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35AB-FA73-434F-A193-BF6D1569C18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Объект 4" descr=""/>
          <p:cNvPicPr/>
          <p:nvPr/>
        </p:nvPicPr>
        <p:blipFill>
          <a:blip r:embed="rId1"/>
          <a:srcRect l="24141" t="37098" r="22255" b="35039"/>
          <a:stretch/>
        </p:blipFill>
        <p:spPr>
          <a:xfrm>
            <a:off x="28440" y="1347840"/>
            <a:ext cx="375156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2"/>
          <a:stretch/>
        </p:blipFill>
        <p:spPr>
          <a:xfrm>
            <a:off x="28440" y="19512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1763640" y="4017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оектов в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492360" y="976320"/>
          <a:ext cx="5472360" cy="4213080"/>
        </p:xfrm>
        <a:graphic>
          <a:graphicData uri="http://schemas.openxmlformats.org/drawingml/2006/table">
            <a:tbl>
              <a:tblPr/>
              <a:tblGrid>
                <a:gridCol w="5472360"/>
              </a:tblGrid>
              <a:tr h="281160"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имеры тем управленческих прое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5028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Центра опережающей профессиональной подготов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236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ниторинг качества проектного управления в колледж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720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фровые образовательные технологии и онлайн-обучение  в НТТМП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ация учащихся школ на получение рабочей профессии за счет реализации практикоориентированной предпрофильной подготов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928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ект создания интеграционной площадки профессиональной ориентации и профессионального самоопределения для выпускников коррекционных школ и молодежи с инвалидностью и ОВЗ г. Нижний Тагил и пригородного района - "Профессиональный выбор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720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чество образования как основа профессиональной моби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728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а модернизации ГАПОУ СО "Кировградский техникум ПТС" в целях устранения дефицита квалифицированных рабочих кадров на период 2019-2024г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тивная модель системы профессионального воспитания обучающихся в ГАПОУ СО "Верхнесалдинский авиаметаллургический техникум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620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е партнерство как условие развития ГБПОУ СО "НТПК № 1" на территории Горнозаводского управленческого округа Свердловской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ниторинг качества образовательной деятельности ГБПОУ СО "Нижнетагильский торгово-экономический колледж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756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имиджа ГАПОУ СО "Кировградский техникум ПТС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27280" y="1200240"/>
            <a:ext cx="425916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нейшем представление проектов запланировано на мар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57,9% ПОО защита состоится н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ных советах по профессиональному образовани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ерритории (округ или Конкретное муниципальное образование). Кроме того, в тех территориях, где Координационные советы по профессиональному образованию не созданы (г. Екатеринбург) или находятся на стадии формирования, защита планируется на заседания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х органов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образова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ах директоров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ят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20A6-9873-4026-813D-5F88FD174A0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1"/>
          <a:srcRect l="24026" t="37870" r="23982" b="35814"/>
          <a:stretch/>
        </p:blipFill>
        <p:spPr>
          <a:xfrm>
            <a:off x="250920" y="1276200"/>
            <a:ext cx="4537080" cy="2762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2"/>
          <a:stretch/>
        </p:blipFill>
        <p:spPr>
          <a:xfrm>
            <a:off x="28440" y="195120"/>
            <a:ext cx="8791560" cy="7812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2273760" y="484200"/>
            <a:ext cx="569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оектов на Координационных сов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5F00-BF76-4BF1-A5AC-A5AAD58F1C7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1" descr="C:\Users\User\AppData\Local\Temp\part000001.jpg"/>
          <p:cNvPicPr/>
          <p:nvPr/>
        </p:nvPicPr>
        <p:blipFill>
          <a:blip r:embed="rId1"/>
          <a:stretch/>
        </p:blipFill>
        <p:spPr>
          <a:xfrm rot="21145200">
            <a:off x="293400" y="1154160"/>
            <a:ext cx="3557520" cy="3956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2"/>
          <a:stretch/>
        </p:blipFill>
        <p:spPr>
          <a:xfrm>
            <a:off x="144360" y="155520"/>
            <a:ext cx="8748720" cy="7812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4193280" y="1203480"/>
            <a:ext cx="34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СПЕЦИАЛИСТА РЕЗЕР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4154400" y="163512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ОЦЕНКИ ОБРАЗОВАНИЯ ПРОФЕССИОНАЛЬНОГО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ЧЕСКОГО ОПЫТА СПЕЦИАЛИСТА РЕЗЕР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4211640" y="2670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ЛАН ПОДГОТ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4427640" y="3340080"/>
            <a:ext cx="460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мероприятий предусматривает различные виды подготовки работника (обучение на курсах подготовки повышения квалификации, освоение программы профессиональной переподготовки и т.п., исполнение обязанностей руководителя) и совершенствование его профессионального опыта,  с учетом результатов самоанализа и актуальных задач развития образовательной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808280" y="223920"/>
            <a:ext cx="70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а , включенного в резерв управленческих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0840" y="1058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2018 и 2019 года 24 человека участвовали и удачно прошли собеседование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меститель руководителя профессиональной организации»</a:t>
            </a:r>
            <a:br>
              <a:rPr sz="1800"/>
            </a:b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собеседования выявлялись личностные качества соискателя, его профессиональные компетенции, а также опыт работы, уровень стратегического и оперативного управленческого мышления, соответствие предполагаемой роли в управленческом аппарате организации, потенциал и амбици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ое собеседование с кандидатами на должность заместителя руководителя позволили определить степень совпадения профессиональных и личностных качеств соискателя с целями организации и системы профессионального образования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324000" y="195120"/>
            <a:ext cx="8424720" cy="8636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1763640" y="19512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беседование с кандидатами 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 «заместитель руководителя профессиональной организ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ECFB-0745-4550-9ECF-E5E382A844B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5C71-546A-4914-9A16-8538B103206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3160" y="1405080"/>
          <a:ext cx="8854920" cy="3576600"/>
        </p:xfrm>
        <a:graphic>
          <a:graphicData uri="http://schemas.openxmlformats.org/drawingml/2006/table">
            <a:tbl>
              <a:tblPr/>
              <a:tblGrid>
                <a:gridCol w="269640"/>
                <a:gridCol w="2113200"/>
                <a:gridCol w="4464000"/>
                <a:gridCol w="2008080"/>
              </a:tblGrid>
              <a:tr h="279720">
                <a:tc gridSpan="3"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ластного совета ветеран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 по управленческим округа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еев Валерий Петр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щего и профессионального образования Свердловской обла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щего и профессионального образования Свердловской обла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004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ов Борис Борис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ый управленческий округ (ранее - директор Талицкого политехникум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шок Сергей Иван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72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шивалкина Татьяна Анатоль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ый управленческий округ (ранее - Краснотурьинский индустриальный  колледж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хломин Яков Михайл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вкина Татьяна Алексе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нозаводской управленческий окру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ее – директор педколледжа № 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кишева Наталья Михайло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овальникова Людмила Михайловн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 управленческий окру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ПОУ СО «Первоуральский политехникум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ет в ГАПОУ СО «Первоуральский политехникум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мотова  Лариса Владимиро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фаева Людмила Василь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й управленческий окру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анее - директор, Каменск-Уральское профессиональное торгово-кулинарное училищ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ягинцев Сергей Михайл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лина Фаина Григорь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теринбур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анее – ОУ «От кутюр») Работает заместителем директора ОТД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узакова Татьяна Серге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кин Александр Михайл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теринбур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анее – ГАПОУ СО «ТИПУ «Кулинар»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узакова Татьяна Серге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нец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ил Иван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теринбур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анее – ГАПОУ СО «Автоматика»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узакова Татьяна Сергее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73080" y="876240"/>
            <a:ext cx="907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по составу Областного совета ветеранов систе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го образования Свердловской об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8440" y="19512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8"/>
          <p:cNvSpPr/>
          <p:nvPr/>
        </p:nvSpPr>
        <p:spPr>
          <a:xfrm>
            <a:off x="1763640" y="33012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бота с ветеранами системы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979640" y="0"/>
            <a:ext cx="6851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9117-A268-48B3-9340-613AB8223D0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780640" y="257184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131840"/>
            <a:ext cx="38880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создания резерв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своевременный подбор претендентов на должности, для замещения которых формируются резервы управленческих кадров, из числа руководителей, обладающих наиболее высоким управленческим потенциал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ить планомерную подготовку и профессиональное развитие управленческих кадр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для развития кадрового потенциала системы среднего профессиона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омер слайда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FB96-83FF-4E26-9684-1A2A459AD81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7920" y="195120"/>
            <a:ext cx="9144000" cy="78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5076720" y="1120680"/>
            <a:ext cx="37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2460600" y="2192400"/>
            <a:ext cx="3263760" cy="70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ВНИЧ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а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150840" y="3147840"/>
            <a:ext cx="2305080" cy="152892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и сопровождение кадрового резерва по должности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ководитель профессиональной организац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3203640" y="3147840"/>
            <a:ext cx="2448000" cy="152892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еседование с кандидатами 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жность «заместитель руководителя профессиональной организации»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20"/>
          <p:cNvCxnSpPr/>
          <p:nvPr/>
        </p:nvCxnSpPr>
        <p:spPr>
          <a:xfrm>
            <a:off x="5651280" y="2643120"/>
            <a:ext cx="1081800" cy="47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22"/>
          <p:cNvCxnSpPr>
            <a:endCxn id="50" idx="0"/>
          </p:cNvCxnSpPr>
          <p:nvPr/>
        </p:nvCxnSpPr>
        <p:spPr>
          <a:xfrm>
            <a:off x="4427280" y="2895120"/>
            <a:ext cx="1080" cy="25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24"/>
          <p:cNvCxnSpPr/>
          <p:nvPr/>
        </p:nvCxnSpPr>
        <p:spPr>
          <a:xfrm flipH="1">
            <a:off x="1547280" y="2576160"/>
            <a:ext cx="756720" cy="545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4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2479320" y="20628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граммы «Настав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999C-13B6-48DF-A1AB-5BCCA480BF9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8"/>
          <p:cNvSpPr/>
          <p:nvPr/>
        </p:nvSpPr>
        <p:spPr>
          <a:xfrm>
            <a:off x="6300720" y="3121200"/>
            <a:ext cx="1943280" cy="155556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ветеранами системы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539640" y="825480"/>
            <a:ext cx="813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наставничества включает в себя компонен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потребност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учении сотруд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, подбор, разработка програм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 и развития сотруд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г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о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енного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DC25-D968-4C7D-ADF5-29AE6F91DC1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668160" y="2928960"/>
            <a:ext cx="671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резерве находится 85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едные собеседования в резерв руководителя состоя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февраля и 20 февраля 2019 года - 12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го участника кадрового резерва руководителя должен быть заполнен ПАСПОРТ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м. на сайте «Кулинара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7"/>
          <p:cNvSpPr/>
          <p:nvPr/>
        </p:nvSpPr>
        <p:spPr>
          <a:xfrm>
            <a:off x="312840" y="1312920"/>
            <a:ext cx="842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ц 2018 года 29 организаций не имели кадрового резерва по разным причин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ура не подана повторно после отрицательного заключения комиссии по результатам собесед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рганизация находится в стадии реорганиз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7000" y="19512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1619280" y="330120"/>
            <a:ext cx="74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ормирование и сопровождение кадрового резерва по должности «руководитель профессиональной организ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0E43-BCBA-4154-B891-26F65B44B79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95280" y="1200240"/>
          <a:ext cx="8280360" cy="3394080"/>
        </p:xfrm>
        <a:graphic>
          <a:graphicData uri="http://schemas.openxmlformats.org/drawingml/2006/table">
            <a:tbl>
              <a:tblPr/>
              <a:tblGrid>
                <a:gridCol w="378000"/>
                <a:gridCol w="2595240"/>
                <a:gridCol w="1667160"/>
                <a:gridCol w="3639960"/>
              </a:tblGrid>
              <a:tr h="42372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ессиональная образовательная организация Свердловской обла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ректор ПО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ндидат в резер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разовательная организация где назначен на должность руководи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664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БПОУ СО «Алапаевский профессионально-педагогический колледж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иректор - Кабакова Татьяна Дмитриевн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гайнов Денис Сергеевич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подават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14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ое бюджетное профессиональное образовательное учреждение Свердловской области «Алапаевский индустриальный техникум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780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БПОУ СО «Екатеринбургский политехникум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иректор - Козлов Андрей Николаевич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тунина Наталья Александровна, заместитель директора по учебно-методической работ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ое бюджетное профессиональное образовательное учреждение Свердловской области «Екатеринбургский политехникум» (</a:t>
                      </a: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в настоящий момент идет процесс назначени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668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БПОУ СО «Екатеринбургский техникум химического машиностроения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иректор - Полетаева Надежда Валерьевн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олок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рина Анатольевна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еститель директора по учебно-производственной работ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ое бюджетное  профессиональное образовательное учреждение Свердловской области «Сысертский социально-экономический техникум «Родник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924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ПОУ СО «Краснотурьинский индустриальный колледж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иректор - Обшивалкина Татьяна Анатольевн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нов Кирилл Сергеевич заместитель директора по учебно-производственной работ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ое автономное профессиональное образовательное учреждение Свердловской области «Краснотурьинский индустриальный колледж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8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7000" y="19512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131920" y="5857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руководителей из резер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7000" y="468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2600640" y="184320"/>
            <a:ext cx="61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подготовка участников кадрового резер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EE09-7C65-42CD-A07B-F0C430EAD51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2268360" y="1187280"/>
            <a:ext cx="6264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ая карта сопровождения кадрового резерва включает в себ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ую подготовку участников кадрового резерва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бразовательном учреждении, МЦК и ИРО  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планирова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ценке и анализе деятельности образовательного учрежд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готовке проектов педагогических совет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окальных актов, программ, концепций развития образовательного учрежд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обязанностей вышестоящег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ководителя в период его отсутствия с целью получения опыта руководящей рабо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валификации по качеству управления профессиональной образовательной организац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249120" y="1633680"/>
            <a:ext cx="122580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2C87-551C-4179-B24D-8F3C7933B34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58920"/>
          <a:ext cx="8229600" cy="3689280"/>
        </p:xfrm>
        <a:graphic>
          <a:graphicData uri="http://schemas.openxmlformats.org/drawingml/2006/table">
            <a:tbl>
              <a:tblPr/>
              <a:tblGrid>
                <a:gridCol w="411120"/>
                <a:gridCol w="7818480"/>
              </a:tblGrid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витие профессиональной образовательной организации в условиях малого город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600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ое партнерство организации СПО как условие ее разви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Совершенствование условий для подготовки высококвалифицированных рабочих кадров с учетом современных стандартов и передовых технологий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аставничество, как один из инструментов сетевого взаимодействия образовательной организации и предприятий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600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кадрового потенциала ОО в контексте модернизации среднего профессионального 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488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Разработка программы сопровождения процесса трудоустройства инвалидов и лиц с ограниченными возможностями здоровь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3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зяйственно-экономическая самостоятельность структурного подразделения "Столовая СПО" в условиях современной образовательной поли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имиджа образовательной организации среднего профессионального образования в современном обществ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600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стема развития кадрового потенциала ПО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ирование программы развития профессиональной организации на основе проектного упра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Создание инновационных мастерских в рамках федерального проекта "Молодые профессионалы"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тевое взаимодействие как механизм подготовки  высококвалифицированных рабочих кадров для высокотехнологичных отраслей промышл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7440">
                <a:tc>
                  <a:txBody>
                    <a:bodyPr lIns="62640" rIns="62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дрение электронного обучения в образовательный процесс, и д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7000" y="19512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1979640" y="22212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потребности в повышении квалификации кадрового резерва выявил наиболее востребованные 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050560" y="987480"/>
            <a:ext cx="65026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пройти обучение по дополнительной профессиональной программ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правление развитием профессиональной образовательной организации (для кадрового резерва) (в форме стажировки)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ём программы составляет 16 академических часов в течение 3 дней 1 квартала 2019 года (первый день - 8 часов, второй день - 3 часа, третий день - 5 часов, включая итоговую аттестаци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ая аттестация проводится в форме Круглого стола, на котором  будут представлены и обсуждены внесенные слушателями корректировки в программы развития профессиональных образовательных организаций. Состав Комиссии итоговой аттестации по программе будет определен Консультативным совет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ам обучения слушателям выдается удостоверение о повышении  квалификации ИР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4EA2-F666-44FB-BD73-8A7D109A693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1"/>
          <a:stretch/>
        </p:blipFill>
        <p:spPr>
          <a:xfrm>
            <a:off x="27000" y="468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1908000" y="1951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ГАОУ ДПО СО «Институт развития образова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214200" y="987480"/>
            <a:ext cx="2089440" cy="180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ttp://s019.radikal.ru/i623/1204/9d/57a121a61799.jpg"/>
          <p:cNvPicPr/>
          <p:nvPr/>
        </p:nvPicPr>
        <p:blipFill>
          <a:blip r:embed="rId3"/>
          <a:stretch/>
        </p:blipFill>
        <p:spPr>
          <a:xfrm>
            <a:off x="395280" y="336384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"/>
          <p:cNvPicPr/>
          <p:nvPr/>
        </p:nvPicPr>
        <p:blipFill>
          <a:blip r:embed="rId1"/>
          <a:stretch/>
        </p:blipFill>
        <p:spPr>
          <a:xfrm>
            <a:off x="0" y="811080"/>
            <a:ext cx="9717120" cy="4108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\\192.168.90.2\doc2\-Воспитательная работа\Дизайнерско-конструкторская группа\Марат\Презентация\Презентация Консультативный совет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43120"/>
          </a:xfrm>
          <a:prstGeom prst="rect">
            <a:avLst/>
          </a:prstGeom>
          <a:ln w="0">
            <a:noFill/>
          </a:ln>
        </p:spPr>
      </p:pic>
      <p:sp>
        <p:nvSpPr>
          <p:cNvPr id="89" name="Заголовок 1"/>
          <p:cNvSpPr/>
          <p:nvPr/>
        </p:nvSpPr>
        <p:spPr>
          <a:xfrm>
            <a:off x="1619280" y="0"/>
            <a:ext cx="73454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А профессиональной переподготовки «Личностно-профессиональные компетенции и управленческие технологии в образовании», ГАПОУ СО «Уральский политехнический колледж-Межрегиональный центр компетенций» 260 часов, очная форма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6C7D-DB2B-4D18-9DB4-D15295D38D6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7093080" y="915840"/>
            <a:ext cx="1800000" cy="18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kirsruo.ucoz.ru/Novosti/whichway.jpg"/>
          <p:cNvPicPr/>
          <p:nvPr/>
        </p:nvPicPr>
        <p:blipFill>
          <a:blip r:embed="rId4"/>
          <a:stretch/>
        </p:blipFill>
        <p:spPr>
          <a:xfrm>
            <a:off x="6948360" y="2940120"/>
            <a:ext cx="1646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2:36:57Z</dcterms:created>
  <dc:creator>Design</dc:creator>
  <dc:description/>
  <dc:language>en-US</dc:language>
  <cp:lastModifiedBy>Комарова Елена Cтепановна</cp:lastModifiedBy>
  <cp:lastPrinted>2019-02-07T09:42:54Z</cp:lastPrinted>
  <dcterms:modified xsi:type="dcterms:W3CDTF">2019-02-14T08:01:00Z</dcterms:modified>
  <cp:revision>201</cp:revision>
  <dc:subject/>
  <dc:title>Презентация PowerPoint</dc:title>
</cp:coreProperties>
</file>