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3311640" cy="684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240000" y="0"/>
            <a:ext cx="6840720" cy="68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3311640" cy="252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0" y="0"/>
            <a:ext cx="6840720" cy="252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0" y="36360"/>
            <a:ext cx="10080720" cy="7561440"/>
          </a:xfrm>
          <a:prstGeom prst="rect">
            <a:avLst/>
          </a:prstGeom>
          <a:gradFill rotWithShape="0">
            <a:gsLst>
              <a:gs pos="0">
                <a:srgbClr val="002142"/>
              </a:gs>
              <a:gs pos="50000">
                <a:srgbClr val="00478e"/>
              </a:gs>
              <a:gs pos="100000">
                <a:srgbClr val="0021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OBL_gerb"/>
          <p:cNvPicPr/>
          <p:nvPr/>
        </p:nvPicPr>
        <p:blipFill>
          <a:blip r:embed="rId1"/>
          <a:stretch/>
        </p:blipFill>
        <p:spPr>
          <a:xfrm>
            <a:off x="3527280" y="0"/>
            <a:ext cx="28800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6"/>
          <p:cNvSpPr/>
          <p:nvPr/>
        </p:nvSpPr>
        <p:spPr>
          <a:xfrm>
            <a:off x="826920" y="2340000"/>
            <a:ext cx="8606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 выполнении в 2018 году плана работы Министерства общего и профессионального образования Свердловской области по противодействию коррупции на 2018–2020 годы, утвержденного приказом Министерства общего и профессионального образования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т 28.09.2018 № 458-Д «Об утверждении Плана работы Министерства общего и профессионального образования Свердловской области по противодействию коррупци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на 2018–2019 годы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68360" y="-36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ть образовательных учреждений,                                       подведомственных Министерству образования (в единицах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0" y="19130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Object 46"/>
          <p:cNvGraphicFramePr/>
          <p:nvPr/>
        </p:nvGraphicFramePr>
        <p:xfrm>
          <a:off x="0" y="1189080"/>
          <a:ext cx="9439200" cy="61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9080"/>
                    <a:ext cx="943920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53"/>
          <p:cNvSpPr/>
          <p:nvPr/>
        </p:nvSpPr>
        <p:spPr>
          <a:xfrm>
            <a:off x="144360" y="68436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подведомственных Министерству образования организаций - 19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376360" y="1332000"/>
            <a:ext cx="36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7280" y="828720"/>
          <a:ext cx="9506160" cy="192096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Указ Губернатора Свердловской области от 25 февраля 2013 года № 91-УГ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Порядке предоставления гражданами, претендующими на замещение должностей руководителей государственных учреждений Свердловской области, и руководителями государственных учреждений Свердловской области сведений о доходах, об имуществе и обязательствах имущественного характе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87280" y="291636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1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7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6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88 граждан, претендующих на замещение должности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7280" y="5292720"/>
          <a:ext cx="9506160" cy="192096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о результатам проверки Прокуратурой Свердловской области возбуждено 60 проверок достоверности и полноты сведений о доходах, об имуществе и обязательствах имущественного характера, предоставленных  руководителями государственных учреждений Свердловской области, подведомственных Министерств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7 году оснований для проведения проверок не 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256360" y="291636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1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6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90 граждан, претендующих на замещение должности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46"/>
          <p:cNvSpPr/>
          <p:nvPr/>
        </p:nvSpPr>
        <p:spPr>
          <a:xfrm>
            <a:off x="936720" y="-36360"/>
            <a:ext cx="90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 количества обращений граждан, содержащих сведения                          о коррупционных проявлениях (по год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1640" y="1252440"/>
          <a:ext cx="9434520" cy="4808520"/>
        </p:xfrm>
        <a:graphic>
          <a:graphicData uri="http://schemas.openxmlformats.org/drawingml/2006/table">
            <a:tbl>
              <a:tblPr/>
              <a:tblGrid>
                <a:gridCol w="936720"/>
                <a:gridCol w="1297080"/>
                <a:gridCol w="1871640"/>
                <a:gridCol w="2519280"/>
                <a:gridCol w="2809800"/>
              </a:tblGrid>
              <a:tr h="283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и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щее количество письменных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 / % от общего числа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, переданных в правоохранительные органы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Количество обращений, </a:t>
                      </a: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щих информацию о коррупционных проявлениях, на основании которых образовательные организации были включены в план проверок финансово-хозяйственной деятельности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</a:tr>
              <a:tr h="53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 / 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 / 6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/ 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7 / 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 / 7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/ 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 / 4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/ 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360360" y="7128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-73080" y="36360"/>
            <a:ext cx="10080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431640" y="755640"/>
            <a:ext cx="9288720" cy="1512720"/>
          </a:xfrm>
          <a:prstGeom prst="roundRect">
            <a:avLst>
              <a:gd name="adj" fmla="val 16667"/>
            </a:avLst>
          </a:prstGeom>
          <a:solidFill>
            <a:srgbClr val="ffcc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03280" y="684360"/>
            <a:ext cx="957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333399"/>
                </a:solidFill>
                <a:uFillTx/>
                <a:latin typeface="Tahoma"/>
              </a:rPr>
              <a:t>Основная задача</a:t>
            </a: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 - совершенствование системы контроля за финансово-хозяйственной деятельностью и профилактики коррупционных правонарушений в подведомственных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Министерству учреждения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431640" y="241128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04720" y="235908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я работы Комиссии Министерства образования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31640" y="313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03280" y="306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троль за деятельностью по профилактике и противодействию коррупции в подведомственных учрежд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31640" y="385272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03280" y="378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нтикоррупционное просвещение гражданских служащих Министерства, руководителей и работников подведомственных организаций и гражд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431640" y="457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03280" y="450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ведение плановых аудиторских проверок подведомствен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431640" y="5292720"/>
            <a:ext cx="9288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03280" y="522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онные разъяснительные и иные меры с подведомственными учреждениями по профилактике коррупционных правонару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31640" y="6013440"/>
            <a:ext cx="9288720" cy="100800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504720" y="6014880"/>
            <a:ext cx="892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 и членов их сем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6000" y="36360"/>
            <a:ext cx="9864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ая структура Министерства образования по вопрос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илактики и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5904000" y="2484360"/>
            <a:ext cx="0" cy="252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287280" y="755640"/>
            <a:ext cx="9433080" cy="936720"/>
          </a:xfrm>
          <a:prstGeom prst="roundRect">
            <a:avLst>
              <a:gd name="adj" fmla="val 16667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44360" y="612720"/>
            <a:ext cx="993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Цель деятельности Министерства образования в сфере противодействия коррупции - устранение причин и условий, порождающих коррупци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1944720" y="176364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1944720" y="1792440"/>
            <a:ext cx="61196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щественный совет Министерства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едставите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216000" y="3060720"/>
            <a:ext cx="2879640" cy="237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216000" y="3147840"/>
            <a:ext cx="28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служебному поведению государственных гражданских служащих Министерства образования и урегулированию конфликта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38"/>
          <p:cNvSpPr/>
          <p:nvPr/>
        </p:nvSpPr>
        <p:spPr>
          <a:xfrm>
            <a:off x="3240000" y="3060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3384720" y="3035160"/>
            <a:ext cx="230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тиводействию коррупции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41"/>
          <p:cNvSpPr/>
          <p:nvPr/>
        </p:nvSpPr>
        <p:spPr>
          <a:xfrm>
            <a:off x="6048360" y="2916360"/>
            <a:ext cx="3887640" cy="2016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6119640" y="2846520"/>
            <a:ext cx="38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ведению конкурсов на замещение вакантных должностей государственной гражданской службы Свердловской области и включения в кадровый резерв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3168720" y="5005440"/>
            <a:ext cx="5111640" cy="93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3240000" y="50054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для проведения аттестации государственных гражданских служащих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7"/>
          <p:cNvSpPr/>
          <p:nvPr/>
        </p:nvSpPr>
        <p:spPr>
          <a:xfrm>
            <a:off x="453564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7056360" y="2484360"/>
            <a:ext cx="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50"/>
          <p:cNvSpPr/>
          <p:nvPr/>
        </p:nvSpPr>
        <p:spPr>
          <a:xfrm>
            <a:off x="223200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51"/>
          <p:cNvSpPr/>
          <p:nvPr/>
        </p:nvSpPr>
        <p:spPr>
          <a:xfrm>
            <a:off x="287280" y="6156360"/>
            <a:ext cx="9433080" cy="1081080"/>
          </a:xfrm>
          <a:prstGeom prst="roundRect">
            <a:avLst>
              <a:gd name="adj" fmla="val 16667"/>
            </a:avLst>
          </a:prstGeom>
          <a:solidFill>
            <a:srgbClr val="cc99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431640" y="6141960"/>
            <a:ext cx="849816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в Министерстве образования принято 105 НПА, регулирующих деятельность в сфере противодействия коррупции, из ни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5 принято в 2017 году, 9 – в 2018 го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1160"/>
            <a:ext cx="10080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44360" y="755640"/>
            <a:ext cx="9720360" cy="79200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16000" y="684360"/>
            <a:ext cx="871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государственными гражданскими служащими Министерства образования (общая численность – 131 челове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44360" y="169236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6000" y="1627200"/>
            <a:ext cx="9577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подведомственными Министерству образования государственными образовательными учреждениями Свердловской области (общая численность – 197 учрежд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44360" y="291636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16000" y="2935440"/>
            <a:ext cx="95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иными образовательными организациями 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44360" y="378000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16000" y="3727440"/>
            <a:ext cx="95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еспечение открытости для граждан информации о деятельности Министерства образования, в том числе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44360" y="464508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16000" y="4570560"/>
            <a:ext cx="9504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ониторинг обращений граждан, содержащих информацию о коррупционных проявл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144360" y="550872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87280" y="5437080"/>
            <a:ext cx="943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коррупционных правонарушений при проведении процедуры государственной (итоговой) аттестации (включая единый государственный экзаме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44360" y="6732720"/>
            <a:ext cx="9720360" cy="504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87280" y="6732720"/>
            <a:ext cx="575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ahoma"/>
              </a:rPr>
              <a:t>Иные направления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4360" y="-36360"/>
            <a:ext cx="9936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соблюдению требован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служебному поведению и урегулированию конфликта интере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360" y="828720"/>
          <a:ext cx="9720360" cy="131112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о Комиссии утверждено приказом Министерства от 19.08.2010 № 262-л                «Об утверждении положения о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в новой редакции от 05.09.2014 № 297-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360" y="2268360"/>
          <a:ext cx="9720360" cy="131148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став Комиссии утвержден приказом Министерства от 06.05.2013 № 226-л  «Об утверждении состава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600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 заседаний 1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2728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заседаний 1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40360" y="3781440"/>
          <a:ext cx="3024360" cy="8636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я 5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6000" y="5292720"/>
          <a:ext cx="3168720" cy="184788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85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ведомления государственных служащих о выполнении иной оплачиваем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17 год – 4 уведомлений 2018 год – 0 уведом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24"/>
          <p:cNvSpPr/>
          <p:nvPr/>
        </p:nvSpPr>
        <p:spPr>
          <a:xfrm>
            <a:off x="216000" y="4716360"/>
            <a:ext cx="93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672000" y="5292720"/>
          <a:ext cx="4464000" cy="184464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21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блюдение государственными служащими требований к служебному поведению и урегулированию конфликта интересов (в т.ч. о предоставлении недостоверных сведений о доходах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 год – 6 случаев, 2018 год – 4 случ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280360" y="5292720"/>
          <a:ext cx="1513080" cy="863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360" y="108000"/>
            <a:ext cx="9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противодействию Коррупции Министер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360" y="971640"/>
          <a:ext cx="9720360" cy="146376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77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и состав Комиссии утвержден приказом Министерства от 23.12.2014                № 427-Л «О Комиссии по противодействию коррупции Министерства общего и профессионального образования Свердловской области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1600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37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2728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4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69080" y="2340000"/>
          <a:ext cx="3166920" cy="863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я 36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8360" y="3914640"/>
          <a:ext cx="9666360" cy="3033720"/>
        </p:xfrm>
        <a:graphic>
          <a:graphicData uri="http://schemas.openxmlformats.org/drawingml/2006/table">
            <a:tbl>
              <a:tblPr/>
              <a:tblGrid>
                <a:gridCol w="9666360"/>
              </a:tblGrid>
              <a:tr h="303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 организации работы по противодействию коррупции в подведомственных Министерству учреждениях (в 2016 году заслушано 6 руководителей, в 2017 году – 9, в 2018 году – 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результатах устранения нарушений, выявленных в ходе проведения проверок финансово-хозяйственной деятельности учре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контроле за исполнением плана Министерства по противодействию корруп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24"/>
          <p:cNvSpPr/>
          <p:nvPr/>
        </p:nvSpPr>
        <p:spPr>
          <a:xfrm>
            <a:off x="287280" y="334800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-77760"/>
            <a:ext cx="10080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расходах, об имуществе и обязательствах имущественного характера государственных служащих Министерств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6000" y="900000"/>
          <a:ext cx="9720000" cy="79236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ечень должностей, замещение которых связано с коррупционными рисками, утвержден приказом Министерства от 29.04.2015 № 177-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256360" y="1981080"/>
          <a:ext cx="4537080" cy="114300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сведения представили – 59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3280" y="1981080"/>
          <a:ext cx="3960720" cy="11430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7 году сведения представили – 54 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3280" y="3421080"/>
          <a:ext cx="3960720" cy="3527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6 проверок достоверности и полноты сведе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 1 гражданский служащ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256360" y="3421080"/>
          <a:ext cx="4537080" cy="352728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35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4 проверка достоверности и полноты сведений и 1 проверка по осуществлению контроля за расход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ы 2 гражданских служащих, 1 гражданский служащий уволен за утрату дове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соблюдения государственными служащими Министерства образования запретов, ограничений и требований к служебному поведе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6000" y="826920"/>
          <a:ext cx="9720000" cy="85428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Федеральный закон от 27 июля 2004 года № 79-Ф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государственной гражданской службе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45080" y="1981080"/>
          <a:ext cx="4032360" cy="10065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проверок в отнош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 гражданских 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4560" y="1981080"/>
          <a:ext cx="3961080" cy="10065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7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 проверок в отнош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 гражданских 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44360" y="3132000"/>
          <a:ext cx="4824360" cy="381636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81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результаты всех проверок рассмотрены на заседании Комиссии по служебному поведению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2 гражданским служащим принято решение применить дисциплинарное взыск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4 гражданским служащим принято решение о признании совершения нарушения, но взыскание не применять, т.к. данные нарушения совершены по невнимательности (без умысла) и малозначите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219640" y="3132000"/>
          <a:ext cx="4680000" cy="37958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38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результаты всех проверок рассмотрены на заседании Комиссии по служебному поведению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3 гражданским служащим принято решение применить дисциплинарное взыскание, в том числе по 1 – уволить за утрату довер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2 гражданским служащим принято решение о признании совершения нарушения, но взыскание не применять, т.к. данные нарушения совершены по невнимательности (без умысла) и малозначите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24000" y="18108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Меры по выявлению случаев возникновения конфликта интересов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44360" y="755640"/>
            <a:ext cx="9720360" cy="93672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16000" y="684360"/>
            <a:ext cx="95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Министра о фактах обращения в целях склонения гражданских служащих к совершению коррупционных правонарушений (в 2017–2018 годах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44360" y="1763640"/>
            <a:ext cx="9720360" cy="122400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16000" y="169236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представителя нанимателя гражданскими служащими о возникновении личной заинтересованности, которая приводит или может привести к конфликту интересов. Заведен журнал регистрации уведомлений (в 2017–2018 годах подобные уведомления не поступали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144360" y="3060720"/>
            <a:ext cx="9720360" cy="1800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16000" y="2989440"/>
            <a:ext cx="95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сообщения гражданскими служащими о получении подарка в связи с их должностным положением или исполнением ими служебных (должностных) обязанностей, сдачи и оценки подарка, реализации (выкупа) и зачисления средств, вырученных от его реализации. Заведен журнал регистрации уведомлений (в 2017–2018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144360" y="4932360"/>
            <a:ext cx="9720360" cy="1584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216000" y="490068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 здании Министерства образования, в местах предоставления государственных услуг, в служебных помещениях, где на регулярной основе осуществляется взаимодействие с гражданами и организациями, размещены объявления антикоррупционного  содержания. В данных помещениях установлены камеры видеонаблюд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144360" y="6661080"/>
            <a:ext cx="9720360" cy="468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216000" y="666108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ные ме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44360" y="55440"/>
            <a:ext cx="993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ые, разъяснительные и иные меры по соблюдению гражданскими служащими обязанностей, установленных в целях противодействия корруп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360" y="746280"/>
          <a:ext cx="9791640" cy="1736640"/>
        </p:xfrm>
        <a:graphic>
          <a:graphicData uri="http://schemas.openxmlformats.org/drawingml/2006/table">
            <a:tbl>
              <a:tblPr/>
              <a:tblGrid>
                <a:gridCol w="9791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тодические рекомендации по осуществлению комплекса организационных, разъяснительных и иных мер по недопущению должностными лицами поведения, которое может восприниматься окружающими как обещание дачи взятки или предложение дачи взятки либо как согласие принять взятку или как просьба о даче взятки (письмо Министерства труда и социальной защиты Российской Федерации от 10.07.2013 № 18-2/10/2-3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4360" y="2629080"/>
          <a:ext cx="3527640" cy="122364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проведено 3 учебы по антикоррупционной тематике с гражданскими служащим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887640" y="2629080"/>
          <a:ext cx="2737080" cy="30225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ы консультации гражданских служащих по вопросам противодействия коррупц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7 году - 11 индивидуальных и 2 групп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8 году – 240 и 3 соответ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4360" y="4068720"/>
          <a:ext cx="3527640" cy="146376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Начальникам структурных подразделений Министерства выдана литература антикоррупцио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4360" y="5869080"/>
          <a:ext cx="6480360" cy="132552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формация о работе  Министерства по профилактике коррупционных и иных правонарушений размещается на сайте Министерства в рубрике «Противодействие коррупции», а также на одноименном информационном стенде в здани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840360" y="2629080"/>
          <a:ext cx="3095640" cy="44798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и проведении конкурса на замещение вакантных должностей конкурсантам в обязательном порядке задаются вопросы о нормах законодательства по противодействию коррупции, об ограничениях, запретах и обязанностях, связанных с прохождением гражданской службой, а также об этике служебного поведения государственных гражданских служа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2:09:27Z</dcterms:created>
  <dc:creator>Ирина</dc:creator>
  <dc:description/>
  <dc:language>en-US</dc:language>
  <cp:lastModifiedBy>Каратаева Елена Владимировна</cp:lastModifiedBy>
  <cp:lastPrinted>2019-01-23T07:34:59Z</cp:lastPrinted>
  <dcterms:modified xsi:type="dcterms:W3CDTF">2019-01-23T08:09:09Z</dcterms:modified>
  <cp:revision>350</cp:revision>
  <dc:subject/>
  <dc:title>Разработка эффективных механизмов реализации инвестиционных проектов в Свердловской области  Министерство культуры и туризма  Свердловской области</dc:title>
</cp:coreProperties>
</file>